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E3F-0962-4690-8028-AFE86B55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C0D-1922-450B-9A0C-EA8974EA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DF5FE-5DDC-41FF-8057-C40BB9A3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FA7BA-B556-4D50-B2EB-A2110369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43B89-F9D0-4649-B17C-D321D697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74002-7F87-4114-AA36-8C24CADA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0DF1B-8FBC-42BF-8F82-76612F8A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0BB31-0A24-4317-ACC9-8D5286A7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60C03-AA9F-4D5D-868A-69A712D1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C90E1-A349-4DEE-A45A-DC756F45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51738-9121-4974-A87E-8A224B63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C1104-9B21-4FC6-AC7F-80BD1280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DC0-ED66-4440-9D61-E36A29B3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C08CA-C6F3-4315-95E7-3C07CD5A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92D1E-5DBE-4D49-80CA-BB1CBD43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47495-47D1-4329-9694-65361912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4971E-58BB-4802-9067-3ADC49E1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36CB8-694F-43F8-AE05-DD0949F0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A843A-055F-4EB0-8E3F-F0A95295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00AD4-1C1E-4B27-A26A-9CA1171B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DAF27-F3AF-4107-9C21-5AEDA679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AB07C-D094-4971-9324-94BB1EBC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A5D83-0BE5-4798-B967-027B11C6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D1E-EC12-4281-9C61-521E5A4B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42277-CE99-4B71-8F47-33B56A60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F3816-4967-43C1-B054-79DD0255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F540E-F70B-4DF3-BF2A-A53CDC90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1546D-803F-45F2-BCF6-B1BD15F9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80968-FEDA-4CF5-A166-33C60EB2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3DCE8-9B71-4543-B4F0-BA2087C2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2EC3C-D01C-45A6-8F33-3B92E0BB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600C5-5EB1-4F98-818A-1B4B62A2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F93D9-E6F8-464A-8C68-5B4ECB85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345F8-63BA-440B-A8F9-5B1CFF53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8EEA-FFD6-423E-8606-6036E6D7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C2FBD-AD5D-4D8B-96FC-33C670D9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2E05B-F73F-4637-BE90-DC025D32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68161-91CE-4314-A45D-5F1286C1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3A344-2C65-41EC-9FD7-8D481C53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ED9AC-7D3B-43D2-AB6A-0789F9B0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FA4B5-4A72-4F75-9AEF-C317222A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F975D-F36A-4A34-8C9D-4871DB7A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94F98-58A0-4D60-947F-EDBF720C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28407-A5DD-4ABE-9B0B-C9670777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82C9E-7EDE-42E2-A8A2-5B799A47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04DF-B1DA-47AB-A12F-ED464DB4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BAA92-387D-4DA1-906B-9485D71C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D09DF-E318-4569-A250-52CAB3D7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9548B-763F-44C2-BCA8-66E58E17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469C3-7D02-4890-BED3-3002572E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A90C6-53BD-4DC6-AB28-8A16F0D7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6C56-62B0-4887-816B-EA015271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8599-490A-40FA-8BD4-3DD7CB1A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9187-2943-468D-AF87-AAE08D33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D7F5-47AE-439F-A295-871DC6BE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3136-B0C4-4D60-98B1-2323EAEE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95A-DEB7-46EB-87EA-7089A985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3E11-22B3-4344-A253-CEFBCDD2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9C42-D963-4DEE-A0C7-CD90EBAC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E6CC-D274-41A1-9671-9A4B37D3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4667-6389-46A4-924C-DE0A0D39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BA5D-6FEC-4627-8DFA-0A40C33F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26FC-8691-4C06-9C3B-53FC45CB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CEB08-FAE4-4D3A-A2CF-3A23740C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BE2A4-26B9-438C-948A-CFCA25DC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DBAC-EF92-42BD-94DE-FEDB8FB1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F5B38-A38A-45D0-8E3F-A7DBAA65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0DB-A036-49DF-BE45-FA0F1D28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10241-3300-43C3-AA6F-4E0F4E3D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0D72-511C-45CC-A4EB-CE4ACEA8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3DBCA-2D21-4615-BA8B-FAA2DA04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6BCED-5C5C-437F-97E0-7F957CEC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C53AF-672A-4428-ABFA-FFA84150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175E8-AD0D-4DC8-A4C3-CF7525A5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8133-6CCC-4EF2-809E-DE3301FD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3F897-88B6-46E2-B3C1-D1EFE07D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C8890-B6C8-4F63-9F3B-176ED0C8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A0FC8-FDFD-4B2A-8DDB-EFA1CCE1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CF5-49B9-45F8-AB00-E7ED88F5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15D6C-A460-4173-B25C-CA4F8688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C6081-820F-4269-A0C0-0B026A29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0D724-7C0F-4331-A0EF-B52BDE5D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11B1-6F10-4943-83C4-88FD738F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F6467-27F6-418A-AE9B-9EBD9AE1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2DA18-6014-4CDA-BD83-44605A39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A9069-E6FE-4187-8D28-94E9C204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19455-56C4-43A7-B109-485EDDAD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C1B54-4CD2-4899-93F2-01765D41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CD572-7971-40CD-A2A0-9A182A77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C07-FD6E-4DDF-9168-7D29ED9C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DB026-86E6-43E7-8F25-037F73A9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BFEEC-83AB-4889-997B-7E8432E0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56F44-5007-4E0E-8014-0630E007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C6E16-0E78-4250-995F-5E6508CE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0D0DE-ABDA-4332-950C-37FEACC5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A23FC-01D3-4942-A9AA-A7457D27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F9FF1-8BD0-49D6-92B7-945AF649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A8537-0C78-45B7-A9D6-BF694B14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7FF5A-D005-426D-BB94-6D1374BD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44633-8A20-49A5-9C80-9627F08A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BB28-1361-4E8D-861F-5846284C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5C4A8-C20F-46B6-B99C-E0CF8CF4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05E70-D0BF-4831-B6DC-2B0D9DD0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55FAA-80B5-4219-845C-B03729D3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B1BBC-4F5C-412D-AB46-0646811C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C828D-0966-4097-9A03-E7049A73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B8F1E-64AB-4268-8CC2-E8AB04DC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3B3E0-B3DA-4D62-988C-C6410A22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03620-D1DA-4CAF-BF1B-D008D3FB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06524-8652-4A2E-9E59-67608B14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DA0B2-496D-41B6-9675-70D93A8C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709-0358-4739-9557-2046A668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546EC-15CE-4364-949C-416D924F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54EB1-2554-4128-B5A3-8282E5C3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925C3-1E09-411E-BDD0-43157A8A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9C382-F320-4923-A39B-2D480ACB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CCF13-91DA-450E-A719-76841C2F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1BE3D-2CE2-4CA3-88FD-E83C7233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10CEC-0E12-4402-8AE7-30CF40AF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4AB90-2AEF-4041-AD70-324E77D8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F4507-D0CE-4861-AC67-14EAA222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0E967-9867-4F7F-9E54-1279E56A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D58-E313-4BF4-9ED4-426C0027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D3DBB-6833-4B76-813C-C3E29892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BCC34-4F71-4EAA-BD39-05D1289A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3C55C-BEE1-4D6D-83A5-3F7BFCBC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BDCEA-031B-486A-8B75-6CC7F693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172E9-4738-45C9-91C7-4B3BDA6E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8716B-188A-4976-94F9-56F9FC79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B17EC-090B-4186-A145-698486A8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C8F17-57E7-46C4-9FD2-0FDFDF6F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A2C11-7058-4730-A694-C41F2874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F4BCC-EC68-4A5A-A6B8-7F6304DF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61A-AA9C-46E7-9E8A-B5DFD704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69F62-C101-46AA-A2C1-F8B44408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987D8-110E-40B9-8E2E-E2FA5423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91211-40F3-4E5C-8C3C-F3ECF379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244E8-30F2-43D7-973E-68089463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B44CC-5058-4505-AE7D-64FE84EE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50867-E23E-43D9-9CEC-2A0E5F84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D1030-E8C5-48EC-A198-8F7D2030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DDC79-F83F-4698-9E4D-BE23C566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4423C-0D64-424D-9534-2BD67918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0DF25-2148-47B4-8C7E-CB958239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593A-2DC0-4790-98EA-98CA495F9F9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7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2E5F-4F49-476A-A4E8-6316220D86A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0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252B-F0B4-4BCC-BA39-C603C725F2F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1BEC-69BE-404B-9F8F-F450D108C64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0D9D-05BF-4BEE-B8B2-D5BADC0B75C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22D6-2307-41A9-A047-7C36D5704C6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9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E851-6E9B-4D73-B63F-9732A64E916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72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B0BA-19ED-452A-B68C-7051BD4FD20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BABF-3156-4BA4-8A54-2E66ACDEA02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8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F90B-D205-49D2-BEC1-FCF8EA08D5D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01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DB4F-CF7B-46F3-8F0E-DA865A691D7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4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90BE-6B6E-4E90-B325-354507C68EF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e19"/>
                </a:solidFill>
                <a:latin typeface="Arial"/>
                <a:ea typeface="Arial"/>
              </a:rPr>
              <a:t>Pr</a:t>
            </a:r>
            <a:r>
              <a:rPr b="1" lang="hr-HR" sz="4400" spc="-1" strike="noStrike">
                <a:solidFill>
                  <a:srgbClr val="fb1e19"/>
                </a:solidFill>
                <a:latin typeface="Arial"/>
                <a:ea typeface="Arial"/>
              </a:rPr>
              <a:t>omjena unutarnje energije</a:t>
            </a:r>
            <a:br>
              <a:rPr sz="4400"/>
            </a:br>
            <a:r>
              <a:rPr b="1" lang="hr-HR" sz="4400" spc="-1" strike="noStrike">
                <a:solidFill>
                  <a:srgbClr val="fb1e19"/>
                </a:solidFill>
                <a:latin typeface="Arial"/>
                <a:ea typeface="Arial"/>
              </a:rPr>
              <a:t>toplin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4838"/>
                </a:solidFill>
                <a:latin typeface="Arial"/>
                <a:ea typeface="Arial"/>
              </a:rPr>
              <a:t>Unutarnja energija i topli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380880" y="1447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perje štiti pticu od hladnoć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voda provrije u lončiću stavljenom na štednj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245040" cy="457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35812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Box 6"/>
          <p:cNvSpPr/>
          <p:nvPr/>
        </p:nvSpPr>
        <p:spPr>
          <a:xfrm>
            <a:off x="810000" y="1371600"/>
            <a:ext cx="718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av osjet daju jednako hlad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dov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d kamen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veta stanemo li na nji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4557600" cy="1981080"/>
          </a:xfrm>
          <a:prstGeom prst="rect">
            <a:avLst/>
          </a:prstGeom>
          <a:ln w="0">
            <a:noFill/>
          </a:ln>
        </p:spPr>
      </p:pic>
      <p:pic>
        <p:nvPicPr>
          <p:cNvPr id="562" name="Slika 4" descr=""/>
          <p:cNvPicPr/>
          <p:nvPr/>
        </p:nvPicPr>
        <p:blipFill>
          <a:blip r:embed="rId2"/>
          <a:stretch/>
        </p:blipFill>
        <p:spPr>
          <a:xfrm>
            <a:off x="458640" y="838080"/>
            <a:ext cx="13557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8"/>
          <p:cNvSpPr/>
          <p:nvPr/>
        </p:nvSpPr>
        <p:spPr>
          <a:xfrm>
            <a:off x="1701000" y="685800"/>
            <a:ext cx="55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rijenos topline vođenjem</a:t>
            </a: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86040" y="1650960"/>
            <a:ext cx="8847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ijelaz topline između dvaju tijela različitih temperatura u dodi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ziva  se vođenje topline (kondukcij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11280" y="3048120"/>
            <a:ext cx="764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oplinski izo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oš vodič topline (staklo, zrak, stiropor, kamena vu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oplinski vodič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obar vodič topline (metal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5" descr="stiropor"/>
          <p:cNvPicPr/>
          <p:nvPr/>
        </p:nvPicPr>
        <p:blipFill>
          <a:blip r:embed="rId1"/>
          <a:stretch/>
        </p:blipFill>
        <p:spPr>
          <a:xfrm>
            <a:off x="6248520" y="4344840"/>
            <a:ext cx="2565360" cy="192888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6"/>
          <p:cNvSpPr/>
          <p:nvPr/>
        </p:nvSpPr>
        <p:spPr>
          <a:xfrm>
            <a:off x="4797000" y="5867280"/>
            <a:ext cx="136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blaganje zid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tiropo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8"/>
          <p:cNvSpPr/>
          <p:nvPr/>
        </p:nvSpPr>
        <p:spPr>
          <a:xfrm>
            <a:off x="1549440" y="60948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rijenos topline strujanjem</a:t>
            </a: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1350720" y="1628640"/>
            <a:ext cx="6122880" cy="1191240"/>
          </a:xfrm>
          <a:prstGeom prst="rect">
            <a:avLst/>
          </a:prstGeom>
          <a:noFill/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 tekućinama i plinovima toplina se preno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rujanjem (konvekcij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0" descr=""/>
          <p:cNvPicPr/>
          <p:nvPr/>
        </p:nvPicPr>
        <p:blipFill>
          <a:blip r:embed="rId1"/>
          <a:stretch/>
        </p:blipFill>
        <p:spPr>
          <a:xfrm>
            <a:off x="642960" y="3500280"/>
            <a:ext cx="3906720" cy="2667240"/>
          </a:xfrm>
          <a:prstGeom prst="rect">
            <a:avLst/>
          </a:prstGeom>
          <a:ln w="0">
            <a:noFill/>
          </a:ln>
        </p:spPr>
      </p:pic>
      <p:sp>
        <p:nvSpPr>
          <p:cNvPr id="571" name="Rounded Rectangular Callout 5"/>
          <p:cNvSpPr/>
          <p:nvPr/>
        </p:nvSpPr>
        <p:spPr>
          <a:xfrm>
            <a:off x="5029200" y="3276720"/>
            <a:ext cx="2571840" cy="1108080"/>
          </a:xfrm>
          <a:prstGeom prst="wedgeRoundRectCallout">
            <a:avLst>
              <a:gd name="adj1" fmla="val -69787"/>
              <a:gd name="adj2" fmla="val 108708"/>
              <a:gd name="adj3" fmla="val 16667"/>
            </a:avLst>
          </a:prstGeom>
          <a:solidFill>
            <a:srgbClr val="f2dcdb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ružno strujanje zraka uz toplu pe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4648320" y="3200400"/>
            <a:ext cx="3733560" cy="2720880"/>
          </a:xfrm>
          <a:prstGeom prst="rect">
            <a:avLst/>
          </a:prstGeom>
          <a:ln w="0">
            <a:noFill/>
          </a:ln>
        </p:spPr>
      </p:pic>
      <p:sp>
        <p:nvSpPr>
          <p:cNvPr id="573" name="Rounded Rectangular Callout 4"/>
          <p:cNvSpPr/>
          <p:nvPr/>
        </p:nvSpPr>
        <p:spPr>
          <a:xfrm>
            <a:off x="4267080" y="838080"/>
            <a:ext cx="4143600" cy="2057400"/>
          </a:xfrm>
          <a:prstGeom prst="wedgeRoundRectCallout">
            <a:avLst>
              <a:gd name="adj1" fmla="val -30726"/>
              <a:gd name="adj2" fmla="val 81328"/>
              <a:gd name="adj3" fmla="val 16667"/>
            </a:avLst>
          </a:prstGeom>
          <a:solidFill>
            <a:srgbClr val="f2dcdb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trujanje zraka u prirodi nastaje zbog nejednakog zagrijavanja različitih dijelova Zemljine površi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uragan"/>
          <p:cNvPicPr/>
          <p:nvPr/>
        </p:nvPicPr>
        <p:blipFill>
          <a:blip r:embed="rId2"/>
          <a:stretch/>
        </p:blipFill>
        <p:spPr>
          <a:xfrm>
            <a:off x="304920" y="1295280"/>
            <a:ext cx="3886200" cy="291492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445320" y="42274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što nastaju uragan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1735200" y="63036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rijenos topline zračenjem</a:t>
            </a: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650160" y="1077840"/>
            <a:ext cx="8224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ijelaz topline zračenjem ili radijacij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grijana tijela isijavaju toplinu u okolinu. To je tz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oplinsko ili infracrveno zračenje.Tijela koja zrače pri t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e hl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ijela na koje padne zračenje dijelom ga upijaju, dijel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bijaju, a dijelom propuštaju. Upijanjem energije zrač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ijela se zagrijav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5"/>
          <p:cNvSpPr/>
          <p:nvPr/>
        </p:nvSpPr>
        <p:spPr>
          <a:xfrm>
            <a:off x="7162920" y="51055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Zračenje to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6" descr="palma"/>
          <p:cNvPicPr/>
          <p:nvPr/>
        </p:nvPicPr>
        <p:blipFill>
          <a:blip r:embed="rId1"/>
          <a:stretch/>
        </p:blipFill>
        <p:spPr>
          <a:xfrm>
            <a:off x="4876920" y="4417920"/>
            <a:ext cx="19256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Box 3"/>
          <p:cNvSpPr/>
          <p:nvPr/>
        </p:nvSpPr>
        <p:spPr>
          <a:xfrm>
            <a:off x="272520" y="1676520"/>
            <a:ext cx="894204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o može toplina prelaziti s tijela na tijel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da toplina prelazi s tijela na tijelo vođenje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Zašto nam se kad puše vjetar čini da je vani hladnije nego što je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o se uglavnom toplina prenosi kroz tekućine i plinov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Navedi primjer prelaska topline zračen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ved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ke primjere dobrih vodiča top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su toplinski izolatori? Gdje se koris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Zašto je u termosici napitak vruć i nekoliko sati nakon š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smo ga spravil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Slika 2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38862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2:31Z</dcterms:created>
  <dc:creator>Slavko</dc:creator>
  <dc:description/>
  <dc:language>en-US</dc:language>
  <cp:lastModifiedBy>Tomislav Dumančić</cp:lastModifiedBy>
  <dcterms:modified xsi:type="dcterms:W3CDTF">2019-09-17T08:52:51Z</dcterms:modified>
  <cp:revision>39</cp:revision>
  <dc:subject/>
  <dc:title>Slide 1</dc:title>
</cp:coreProperties>
</file>